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459-A57E-4FEF-B373-FB80DD0EF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7AD7-8423-4813-8415-9AF6053C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335-9D61-43F2-9DC7-B48E42C6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D50-1AB7-4941-B65B-A1429114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CBDF-CC3E-43B6-B81A-E8F954BB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DC97-D6AF-4CE4-94C1-0EF5579C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498E-B05A-4CD6-85F7-AE6339C9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B006-273F-4B97-8921-4921B375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0E887-13A6-4A50-8C86-EEBE32C9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D131-69F1-4675-9A8A-7E87F282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24820-D375-43A8-85EA-33478FDE1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1A9-7E12-4B3F-A088-04F2513C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0E68-80D1-405E-8AA1-7B5F65CC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092EF-C95D-4E92-8C69-DE6A1F8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009B-9144-405B-A90A-A2AC044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0A06-217B-4DD6-9405-23A5647D6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DE0F-FD82-4044-B7C5-6FA5DB87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E889C-7DEA-4AFF-991D-A66CD2EB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37F99-538F-4885-9103-13D46538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F9204-A182-45D2-86AF-DEB3A47C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C20C00-0E6E-46E1-A822-754ED02E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288DB-F573-4D89-9544-EA713AFB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BC0-565F-43CE-BC65-55B92B0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B30D0-F227-4BA0-A146-37ED71B4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B53F2-D4E2-4756-BBB3-2FCDBF5D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01701C-F09A-4A8F-AF71-58A4A725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B4498-2E10-4BD9-A8A8-6BAF74C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6982D-DDC1-4A03-95C1-81E502BD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452C6-1944-4854-AFCE-613C49DB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AFA6E-4725-4634-96A1-C9E2B981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0DEA5-64A8-45E5-811C-90AA3D22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79BA3-72B6-4535-AF00-1BB7DEAE8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73DAC-ABD8-4A2C-92A0-D34C23CF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6CD-5092-419D-8C43-7C644C19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C37A3-0FAA-498E-9569-1C13EA23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B3F4D-657B-48AA-98BF-7E4E6E7B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B32A-18FD-48FF-8A9B-30C5BF35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60096-34B4-4F94-BE21-D48BE4FA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981C2-31D0-4F8D-86A6-10E839F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177AD-E5D4-4514-AE9F-0C0F5DA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B3ECC-57BA-4334-AD5F-8AEADE4A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BDDFC-1CF4-405C-9BE5-B062BAE1A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1750C-B66E-4460-A5AE-24BE35A2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4CBBD-3415-43F5-9673-1E5CAD889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EE48-22D7-4A96-A683-C77F1D1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4F872F-E30A-4B52-954F-C8170F12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6EB0A-80EB-4EB7-8BF0-55421980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FF630-3633-4719-9770-974B63AD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902515-E211-48A5-A16C-DB6E1BE9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513CC-B80C-4D6E-A25E-805A838C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426B7-C67D-45E7-88C3-FFA854A8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557E8-D645-472D-8A71-51388CB2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9895B-67C3-4839-9D9C-D7300CE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A6632-5570-411C-B2EF-9A4BF9F0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F846F-D405-472E-AB0D-B10F1CEE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A8F8-5D0D-46B9-96D4-EF5DA1C4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705E0-6BE9-410B-A65D-DA4911BF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90744-CE36-4C67-9312-0F4AB0F0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E35062-4056-4C52-9257-8DFEC0D2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8682BD-0D18-468A-AE48-B2E0D4A4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2F8C98-F036-456D-B40F-4CB2D1A3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6F9EB3-2151-45F9-A5CE-2853131A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4F895-37CC-450C-861A-FC7D4B7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B5752-FC11-4251-8463-60CCEC52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183F3-41BD-4EB6-8114-DDBCF57C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B5B23-34D3-434E-AF20-C8719D8E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281-BB53-44CB-AFA0-BF5B34FA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3889C5-EEA4-47AA-9595-69FFB0AB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C29D1F-EEAE-4FDB-9620-6DD48CB26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15953A-8251-44FB-898A-394A91FE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4189BE-4505-4C87-BB64-0BE521E6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220A57-99D0-462E-A324-F755BF2A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851D6-FC98-4441-8799-C74557B4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6DB66-0A7E-4759-B25B-9B944A00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F3E030-F8BA-4BEB-80EC-A327103E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FD68DF-8DD4-4343-90BD-D3DAB797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42D0E-6AFB-4741-B256-C5A2ECE9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8B94-085B-42F5-A373-5624A34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F58A7E-55E1-4985-BE7D-A93A059A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8B30BF-D054-4876-8131-291C1804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DC75E4-4D8F-4711-A8D9-C2467A241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4EFF3-9926-4848-8408-BE36FC2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26652-160D-4FE6-A231-9C05B5A3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B98-991C-4D09-A77C-D879506B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497A0A-7DE4-48AA-870B-E2BAFADEB0E6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729F0-A2DA-49F1-9681-C10E9A9B385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BAABD6-7236-4EF7-A5C0-7D3F2EABF5EC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3592A-A4C6-4325-BAC0-98E865D2760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03C83-1D30-43B2-93C4-FE19742EB4DF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F195EC-20DB-4926-9422-725D8331A4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04727-F0FF-4CCD-B6ED-26D2C043EA9B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980F6B-E2FD-4825-88EC-095B2A844B1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0E30BD-2AF7-4210-8A1C-FD1A17BD3891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05B99-A0D3-491A-BB27-A12669310933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B965D6-EB8C-462E-BC05-49D876B09FC0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28B2E-ECAE-4432-B078-240501C5733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22C1C-010D-4123-A0CA-29A1CB4F25B5}" type="datetime"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A66D0-051E-49C3-83F9-7625BF2D3A1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EATING DISORDER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Anorexia, Bulimia and Binge Eating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75f6d"/>
                </a:solidFill>
                <a:latin typeface="Century Schoolbook"/>
              </a:rPr>
              <a:t>ANOREXIA,  BULIMIA OR BOTH</a:t>
            </a:r>
            <a:endParaRPr b="0" lang="en-US" sz="4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Binge eating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Extremely low body weight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Excessive exercise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Ruptured esophagus 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entury Schoolbook"/>
              </a:rPr>
              <a:t>Body image issues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6708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Starvation 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Loss of hair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Eating in secret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Laxative abuse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entury Schoolbook"/>
              </a:rPr>
              <a:t>Inpatient or Outpatient treatment option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Century Schoolbook"/>
              </a:rPr>
              <a:t>ANOREXIA NERVOSA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Content Placeholder 50" descr="Ana-Carolina-Reston.jpg"/>
          <p:cNvPicPr/>
          <p:nvPr/>
        </p:nvPicPr>
        <p:blipFill>
          <a:blip r:embed="rId1"/>
          <a:srcRect l="0" t="-28365" r="0" b="-28365"/>
          <a:stretch/>
        </p:blipFill>
        <p:spPr>
          <a:xfrm>
            <a:off x="612720" y="465120"/>
            <a:ext cx="3657600" cy="67183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haracterized by: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Intense fear of gaining weight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Low body weigh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Distorted/unrealistic view of ones body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Self-starvation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9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75f6d"/>
                </a:solidFill>
                <a:latin typeface="Century Schoolbook"/>
              </a:rPr>
              <a:t>ANOREXIA NERVOSA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ultural- Perfect bod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earance-oriented professions or activi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amily- Critical, family history of anorexia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onality- perfectionist, need to be in control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ighing food and counting calorie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Not eating or eating very little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Over exercising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Moving food around on plate instead of eating 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ighing self multiple times a day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Wearing baggy clothes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CAUSE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Schoolbook"/>
              </a:rPr>
              <a:t>WARNING SIGN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entury Schoolbook"/>
              </a:rPr>
              <a:t>ANOREXIA AND THE BODY</a:t>
            </a:r>
            <a:endParaRPr b="0" lang="en-US" sz="5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Content Placeholder 4" descr="anorexiafaqdia06.jpg"/>
          <p:cNvPicPr/>
          <p:nvPr/>
        </p:nvPicPr>
        <p:blipFill>
          <a:blip r:embed="rId1"/>
          <a:srcRect l="-11543" t="0" r="-11543" b="0"/>
          <a:stretch/>
        </p:blipFill>
        <p:spPr>
          <a:xfrm>
            <a:off x="-247680" y="1600200"/>
            <a:ext cx="8874000" cy="50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75f6d"/>
                </a:solidFill>
                <a:latin typeface="Century Schoolbook"/>
              </a:rPr>
              <a:t>BULIMIA NERVOSA 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Content Placeholder 4" descr="bulimia_nervosa.jpg"/>
          <p:cNvPicPr/>
          <p:nvPr/>
        </p:nvPicPr>
        <p:blipFill>
          <a:blip r:embed="rId1"/>
          <a:srcRect l="0" t="-28271" r="0" b="-28271"/>
          <a:stretch/>
        </p:blipFill>
        <p:spPr>
          <a:xfrm>
            <a:off x="457200" y="527040"/>
            <a:ext cx="3657600" cy="69231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racterized by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Frequent episodes of binging followed by purging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Constant struggle between staying thin/ loosing weight and the overwhelming compulsion to binge ea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Excessive exercising, fasting, or crash dieting vs. purging 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575f6d"/>
                </a:solidFill>
                <a:latin typeface="Century Schoolbook"/>
              </a:rPr>
              <a:t>BULIMIA NERVOSA </a:t>
            </a:r>
            <a:endParaRPr b="0" lang="en-US" sz="6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or body 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story of trauma or abu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ppearance-oriented professions or activiti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371840" y="23619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Lack of control over eating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Eating in secret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Disappearance of food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Going to the restroom after meal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Using laxatives, diuretics or enemas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Smell of vomit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Schoolbook"/>
              </a:rPr>
              <a:t>Frequent fluctuation in weight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entury Schoolbook"/>
              </a:rPr>
              <a:t>CAUSES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3754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Century Schoolbook"/>
              </a:rPr>
              <a:t>WARNING SIGNS</a:t>
            </a:r>
            <a:endParaRPr b="0" lang="en-US" sz="2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575f6d"/>
                </a:solidFill>
                <a:latin typeface="Century Schoolbook"/>
              </a:rPr>
              <a:t>BULIMIA AND THE BODY </a:t>
            </a:r>
            <a:endParaRPr b="0" lang="en-US" sz="53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Content Placeholder 5" descr="bulimia.gif"/>
          <p:cNvPicPr/>
          <p:nvPr/>
        </p:nvPicPr>
        <p:blipFill>
          <a:blip r:embed="rId1"/>
          <a:srcRect l="-11091" t="0" r="-11091" b="0"/>
          <a:stretch/>
        </p:blipFill>
        <p:spPr>
          <a:xfrm>
            <a:off x="-217440" y="1600200"/>
            <a:ext cx="87361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575f6d"/>
                </a:solidFill>
                <a:latin typeface="Century Schoolbook"/>
              </a:rPr>
              <a:t>TREATMENT OPTIONS FOR EATING DISORDERS</a:t>
            </a:r>
            <a:endParaRPr b="0" lang="en-US" sz="38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Content Placeholder 4" descr="help.jpg"/>
          <p:cNvPicPr/>
          <p:nvPr/>
        </p:nvPicPr>
        <p:blipFill>
          <a:blip r:embed="rId1"/>
          <a:srcRect l="0" t="-43926" r="0" b="-43926"/>
          <a:stretch/>
        </p:blipFill>
        <p:spPr>
          <a:xfrm>
            <a:off x="457200" y="-250920"/>
            <a:ext cx="3657600" cy="8334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OREXIA- healthcare team of doctors, nutritionist and therapis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BULIMIA- cognitive-behavioral therapy (change thoughts=change behav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patient vs. outpati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2T13:10:36Z</dcterms:created>
  <dc:creator>Howard County Administrator</dc:creator>
  <dc:description/>
  <dc:language>en-US</dc:language>
  <cp:lastModifiedBy>Howard County Administrator</cp:lastModifiedBy>
  <dcterms:modified xsi:type="dcterms:W3CDTF">2014-10-10T13:07:44Z</dcterms:modified>
  <cp:revision>33</cp:revision>
  <dc:subject/>
  <dc:title>Eating disorders</dc:title>
</cp:coreProperties>
</file>